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FBE-344B-4225-A7BE-03A91E02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A16-605B-4D51-B60B-35F034AA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6AE-BBC0-4B24-8A6C-06596655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15C-053C-4454-8FDA-53B98688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477B-7271-4BA4-B023-954DDEDB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CE1E-7F77-4A76-ABBA-9FE41273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967-23F8-4374-98F3-E7BE87B9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2E1A-B53B-467E-9420-85B3DE9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7047-0EA5-4D2E-805B-66624CE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BBC9-133D-4893-8F3E-99C2697B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C8CE-1700-4563-9778-F6144B4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0D5-29C3-4793-888C-A49BFEA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6E9C-82BA-48FA-B445-BD50445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5C73-2631-4928-A60F-23A5B13F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2CDD-A38D-4B58-8772-068A6688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9AA6-9EFF-4C19-8015-ECE72E4F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5E5-B02A-44E3-9D2D-2CE1E882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835-5017-4826-9140-4CABD6F8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822-35D9-4948-87A7-7578A0DB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951-9319-4DB4-AEB1-CBD0FB7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149-FD08-4034-952F-44AC3A7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650-69ED-4FAE-8BFD-601E553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6BF-C5D4-462B-B98C-C512F48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CE2-46D7-4B2B-8182-753B2DB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E1B-69E5-4EBA-9628-7A53FBE7D0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7A25-97D8-4CC6-8A32-1C0911149E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_Humphre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Nixon_30-0316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xon_30-0316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1.1:  The Nixon Admin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ing to Middl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.  Nixon and Vietnamiz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owing for the Vietnamese to take a more active role by withdrawing U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with honor… “save face”; wanted a say at negoti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ly continues to bomb supply routes in N. Vietnam military bases, Laos and Camb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ial Election 196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M. Nix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ubert Humphr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ichard Nix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ern Sup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. Strom Thurmond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Strategy – slow desegregation in exchange for continu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-and-or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ed at antiwar prote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reme Court criticized for expanding rights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ichard Nix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Federal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size of the federal government and give state and local gov’t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-sharing – federal funds that the states will decide how to uti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ntended consequ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overturn Great Society programs: HUD, OEO, 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Getting back at the Democratic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onstitu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mily Assistance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amping Aid to Families with Dependent Children (AF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o Family Assistan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,600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sup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ed by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, China &amp; the S.U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namization = Nixon Doctrine; all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of détente – easing cold war 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ed by wars in Chile and Ang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1972 Nixon visits China = bett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Leonid Brezhnev @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Arms Limitation Treaty (SALT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36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05-18T12:5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